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CB2-6A7A-4E12-B6A9-0AD594B2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A13-6CDF-40C1-B5C9-E8E09FDC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E4B-0D06-477F-8BD9-94600B15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C2B-3E6D-4CFC-BF6F-52651B3E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500E-F6C4-4C5D-93B6-C54C1657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82CB-0BCE-43AF-BF6C-F6560E14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272A-E38C-4576-A8CB-99C19793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BA84-C8DF-47FE-88DE-CDE0377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766E-8134-4A2D-BE24-25FA6A35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39AC-B442-47ED-BB1E-2262E7C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D56D-BCCD-49D4-915A-7AC645B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0CB-2B81-4BA8-85B8-0DA4488F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CCF1-5D97-4CC8-A714-989E32D4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EB97-891B-4A44-BA48-C819A5CE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2E8F-4106-46E0-B056-CFAD9F69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7290-648A-4E33-9F97-3C80B4BE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8EFE-7E11-4E4E-A2DD-DAD970DC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F33-BE71-48F3-8146-FC01AA72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AF7-9775-456E-8673-F8214959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7C9-AC16-4184-939B-42A28317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DCD-5DB3-40BE-BBCA-BCABD4F0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8F3-4C0E-4062-BE7B-A783F1F4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5D1-2E6C-4F46-B284-DF30B6F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B64-2EA5-434C-A787-9F18DB5B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9577-B2FD-4D79-909F-AA53F31B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781-FB11-4C6C-BCA3-F837D04C1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Soil Form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of the shale, sandstone, or limeston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edroc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Illinois is buried by loess, glacial till, outwash, or alluviu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345"/>
          <p:cNvPicPr/>
          <p:nvPr/>
        </p:nvPicPr>
        <p:blipFill>
          <a:blip r:embed="rId1"/>
          <a:stretch/>
        </p:blipFill>
        <p:spPr>
          <a:xfrm>
            <a:off x="1979640" y="3505320"/>
            <a:ext cx="4817880" cy="3182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57200" y="28195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out 2% of the soils in Illinoi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 than 1% of the soils in Illinois are classified 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rgan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 where formerly shallow ponds supported swamp vege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t and mu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ck is more decomposed than p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ther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5638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opograph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s to the slope characteristics of a soi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ncludes the degree or steepness, length, shape, and direction of a slop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21"/>
          <p:cNvPicPr/>
          <p:nvPr/>
        </p:nvPicPr>
        <p:blipFill>
          <a:blip r:embed="rId1"/>
          <a:stretch/>
        </p:blipFill>
        <p:spPr>
          <a:xfrm>
            <a:off x="5791320" y="17524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ther Factor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sms that live in soil (i.e., plants, insects, and microbes) actively affect soil forma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318"/>
          <p:cNvPicPr/>
          <p:nvPr/>
        </p:nvPicPr>
        <p:blipFill>
          <a:blip r:embed="rId1"/>
          <a:stretch/>
        </p:blipFill>
        <p:spPr>
          <a:xfrm>
            <a:off x="5181480" y="2666880"/>
            <a:ext cx="3135600" cy="347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2887560"/>
            <a:ext cx="4724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greatest affect on the development of soil is from plants that once grew in it, which is referred to as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native vegetatio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ther Factor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types of weathe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hysical weather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caused by the effects of climatic factors (e.g., temperature, water, and wind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hemical weather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the chemical makeup of rock and breaks it dow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ve different factors that affect soil form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26" descr="22"/>
          <p:cNvPicPr/>
          <p:nvPr/>
        </p:nvPicPr>
        <p:blipFill>
          <a:blip r:embed="rId1"/>
          <a:stretch/>
        </p:blipFill>
        <p:spPr>
          <a:xfrm>
            <a:off x="5486400" y="2619360"/>
            <a:ext cx="2857680" cy="3629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7"/>
          <p:cNvSpPr/>
          <p:nvPr/>
        </p:nvSpPr>
        <p:spPr>
          <a:xfrm>
            <a:off x="457200" y="3809880"/>
            <a:ext cx="4495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Topography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lop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i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0560" y="1600200"/>
            <a:ext cx="55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 material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rock material from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the soil is forme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are five different factors that affect soil formation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Living organis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Time or weath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341"/>
          <p:cNvPicPr/>
          <p:nvPr/>
        </p:nvPicPr>
        <p:blipFill>
          <a:blip r:embed="rId1"/>
          <a:stretch/>
        </p:blipFill>
        <p:spPr>
          <a:xfrm>
            <a:off x="3276720" y="4019400"/>
            <a:ext cx="4653000" cy="2686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762120" y="2743200"/>
            <a:ext cx="8001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Climat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the temperature and moisture characteristics of the are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soils in Illinois have been formed from material originally moved by glaci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317"/>
          <p:cNvPicPr/>
          <p:nvPr/>
        </p:nvPicPr>
        <p:blipFill>
          <a:blip r:embed="rId1"/>
          <a:stretch/>
        </p:blipFill>
        <p:spPr>
          <a:xfrm>
            <a:off x="2362320" y="3352680"/>
            <a:ext cx="45972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771560" y="-28440"/>
            <a:ext cx="56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ut 64% of the soil in Illinois has been formed from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red from the blowing of the soil after the glaciers melted and dri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desirable single soil parent mater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ll-balanced mineral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 te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llent water-holding capa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ut 16% of the soil in Illinois has been formed from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outwa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red when the glaciers mel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342"/>
          <p:cNvPicPr/>
          <p:nvPr/>
        </p:nvPicPr>
        <p:blipFill>
          <a:blip r:embed="rId1"/>
          <a:stretch/>
        </p:blipFill>
        <p:spPr>
          <a:xfrm>
            <a:off x="1905120" y="2819520"/>
            <a:ext cx="5562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out 11% of the soil in Illinois is from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glacial ti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343"/>
          <p:cNvPicPr/>
          <p:nvPr/>
        </p:nvPicPr>
        <p:blipFill>
          <a:blip r:embed="rId1"/>
          <a:stretch/>
        </p:blipFill>
        <p:spPr>
          <a:xfrm>
            <a:off x="2362320" y="3349800"/>
            <a:ext cx="4572000" cy="3355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80880" y="23623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layered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bbles and various sizes of boulder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% of the soil in Illinois is a result of recent sediments deposited by streams as they flood and is referred to 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lluv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344"/>
          <p:cNvPicPr/>
          <p:nvPr/>
        </p:nvPicPr>
        <p:blipFill>
          <a:blip r:embed="rId1"/>
          <a:stretch/>
        </p:blipFill>
        <p:spPr>
          <a:xfrm>
            <a:off x="2209680" y="2971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23:56:20Z</dcterms:created>
  <dc:creator>Lindi Kocher</dc:creator>
  <dc:description/>
  <cp:keywords/>
  <dc:language>en-US</dc:language>
  <cp:lastModifiedBy>Alicia Burge</cp:lastModifiedBy>
  <dcterms:modified xsi:type="dcterms:W3CDTF">2010-10-05T02:15:46Z</dcterms:modified>
  <cp:revision>118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